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47C0D-3AE6-4CEE-96C9-26E8311ED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08FAE-1251-4569-8FF8-07E2A3F06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0D819-9C7B-41A3-A7F6-245B21098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F3AD2-281E-41B3-A70C-2D59EEB8C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22E71-FC99-440B-8922-D0D47C208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B7FF6-0E2A-4E5F-AD9D-6F4B10595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D995A-D346-4BA1-979D-A0EF491CE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0E776-6602-4DC6-B5B3-6602CC4AF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81EB1-687C-4276-98E1-053276552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2B23B-CCA2-46AF-BFA6-7080924B8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4F157-EA79-4152-AE44-DB171576E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AE7BF-6520-4C3B-9C20-E8C34B389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516EC-9EDD-431C-8075-751FB54F95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74520" y="55440"/>
            <a:ext cx="8993160" cy="674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533520" y="77760"/>
            <a:ext cx="7924680" cy="657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312920" y="0"/>
            <a:ext cx="6518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64960" y="1103400"/>
            <a:ext cx="8612280" cy="57546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8916840" cy="16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7640" y="17640"/>
            <a:ext cx="9107280" cy="682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5T16:47:00Z</dcterms:created>
  <dc:creator>lucy/laffitte</dc:creator>
  <dc:description/>
  <dc:language>en-US</dc:language>
  <cp:lastModifiedBy>lucy/laffitte</cp:lastModifiedBy>
  <dcterms:modified xsi:type="dcterms:W3CDTF">2011-04-25T16:53:14Z</dcterms:modified>
  <cp:revision>1</cp:revision>
  <dc:subject/>
  <dc:title>PowerPoint Presentation</dc:title>
</cp:coreProperties>
</file>